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C75B6-1005-4101-9EF1-1BB6DF3F96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ises level of awaren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y not get every grant that you apply f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people are encouraged to write outside g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221B-C419-406D-99DE-59E982C95A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1588-0312-431C-BDB7-1B9668A63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FDF6C-D71E-4562-B73C-EE7E52FF3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2553-D993-490A-A198-4DB067D3E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43D34-883E-4256-94AC-6641A3DF23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3DCAF-E634-4382-A9B9-80097D67F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D1F25-45C9-49BC-9BC9-9A0EADD9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73311-C729-412B-ADA5-04473AFDD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2FD2C-C06E-404A-A320-E68119A6E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4938A-3F93-49AA-B96D-16ABDCF7E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AF349-4FDD-4F77-820E-0BB42EED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8FC13-C444-4D23-A945-C241A36C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BD79-9029-45A0-9F65-57EF448C1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97E7B-23BD-4762-AA8A-D729CACAE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4E60D-7714-46B2-89AB-C6621B6D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6AF61-98C7-4E69-9408-F4D02969F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6DA75-0063-43DD-8941-94C4166FB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18604-66BA-4267-935F-898B0F00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2465E-55D5-435B-A1E3-3B15030C7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A1A081-627C-42B7-A2A2-F7ED2581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DF21F1-1390-4DCF-914B-68D1C687C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86D7A4-D2C9-47E0-B41F-77420350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D9349-7D25-495E-8E79-6D6749483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DF09-C1EC-464E-9396-885DF0AB9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1C0ED-B218-49B9-9900-ECF3CFB7B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461528-E980-473B-BD4E-88EF27419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5B6C7-2722-4B17-B306-858BA29D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6EC45C-5BF6-4F2E-AAB8-2122CC3D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FFBE2-46E0-4A4C-BB9F-1A2CF9B79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05E1B-8D86-461B-9CA5-1EF8667A3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25F87-4760-4834-BDCC-AEF4141B6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58D869-CA0A-4DE1-A040-EC82FA1A7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CF097-ACC0-45E4-852B-4BAF1C949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55395-1A38-46F0-BB34-65953E9B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1ABF-DE06-4C97-8C59-BFB3EA80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A0987E-621A-45D5-96FA-A9C662D1D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C8D977-B4B6-4788-86F6-53CB61F9A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F7A1C2-F5D2-4883-9DB4-79139293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48336-9D42-4369-8CF9-003396DC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EDF59-0CAB-4D89-AF19-15F19EBF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FEA823-70C2-4125-8002-255105DC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66455-6000-4784-A69F-A34B69F49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424A7B-BD66-4C16-99A9-D55EE7C12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6E2075-731F-4162-B2F8-6CE19269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98ED-D028-45C3-B383-CDB06E315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CD3A-B513-4CE5-87CA-C273B0B4E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7C5E-38E1-4DC6-B25A-098BBCAA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B0A9-0742-4DB5-8E46-ABF4514F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92FD-39F6-4428-9637-23D4A5D88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BFBB0-B9D2-43E2-802B-E556B8249846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5F402-F594-44BE-9674-FAF19BC437BE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A4906-7217-4C04-B77A-35D654E2FBF2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F95FB-BA23-4799-8AD1-E73D7A5DE2C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8F5B-5E77-4396-A39F-5932B2120AB9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59851-DCFC-4041-91D9-96AD42AF41CE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B90F-B9E9-4354-B231-84863678F56C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D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24C24-E886-4E44-9435-6798379EED4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hethinkingstick.com/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techtipswcsd.wikispaces.com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thethinkingstick.com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1255680"/>
            <a:ext cx="7864560" cy="201132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324828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Webster Central School District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onstantia"/>
              </a:rPr>
              <a:t>Future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6" descr="C:\Users\bgoldamm\AppData\Local\Microsoft\Windows\Temporary Internet Files\Content.IE5\YYB0OU0H\MCj03030390000[1].jpg"/>
          <p:cNvPicPr/>
          <p:nvPr/>
        </p:nvPicPr>
        <p:blipFill>
          <a:blip r:embed="rId2"/>
          <a:stretch/>
        </p:blipFill>
        <p:spPr>
          <a:xfrm>
            <a:off x="6324480" y="4343400"/>
            <a:ext cx="2602080" cy="23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23158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onstantia"/>
              </a:rPr>
              <a:t>By Jeff Utech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www.thethinkingstick.com</a:t>
            </a: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3" descr="20thCentTeacher.jpg"/>
          <p:cNvPicPr/>
          <p:nvPr/>
        </p:nvPicPr>
        <p:blipFill>
          <a:blip r:embed="rId2"/>
          <a:stretch/>
        </p:blipFill>
        <p:spPr>
          <a:xfrm>
            <a:off x="1905120" y="1320840"/>
            <a:ext cx="507996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21</a:t>
            </a:r>
            <a:r>
              <a:rPr b="0" lang="en-US" sz="4900" spc="-1" strike="noStrike" baseline="30000">
                <a:solidFill>
                  <a:srgbClr val="04617b"/>
                </a:solidFill>
                <a:latin typeface="Calibri"/>
              </a:rPr>
              <a:t>st</a:t>
            </a: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 Century Technology Tools</a:t>
            </a:r>
            <a:br>
              <a:rPr sz="4900"/>
            </a:b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Working Smarter </a:t>
            </a:r>
            <a:r>
              <a:rPr b="0" i="1" lang="en-US" sz="4900" spc="-1" strike="noStrike">
                <a:solidFill>
                  <a:srgbClr val="04617b"/>
                </a:solidFill>
                <a:latin typeface="Calibri"/>
              </a:rPr>
              <a:t>NOT</a:t>
            </a:r>
            <a:r>
              <a:rPr b="0" lang="en-US" sz="4900" spc="-1" strike="noStrike">
                <a:solidFill>
                  <a:srgbClr val="04617b"/>
                </a:solidFill>
                <a:latin typeface="Calibri"/>
              </a:rPr>
              <a:t> Harder</a:t>
            </a:r>
            <a:endParaRPr b="0" lang="en-US" sz="4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9" name="Building While Flying.wmv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2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PLPs The Futu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29714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lementary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rant Opportunities: Klem South Elem. and beyon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fessional Development on a systemic leve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martboards: training &amp;conferenc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Inquir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iterac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llegial Learning Circ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0280" indent="-23832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5048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Face 2 Face Learning</a:t>
            </a:r>
            <a:br>
              <a:rPr sz="5000"/>
            </a:br>
            <a:r>
              <a:rPr b="0" lang="en-US" sz="4000" spc="-1" strike="noStrike" u="sng">
                <a:solidFill>
                  <a:srgbClr val="04617b"/>
                </a:solidFill>
                <a:uFillTx/>
                <a:latin typeface="Calibri"/>
              </a:rPr>
              <a:t>2007-2008   &amp;  2008-2009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22093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nstantia"/>
              </a:rPr>
              <a:t>Secondary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Department Meeting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Lead Teacher Meeting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LCs-Professional Learning Communiti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Peer-to-Peer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Tech Talk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o-Planning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Video Conferencing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ommittee Meeting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Collegial Learning Circles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Constantia"/>
              </a:rPr>
              <a:t>Tools Wiki: </a:t>
            </a:r>
            <a:r>
              <a:rPr b="0" lang="en-US" sz="22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http://techtipswcsd.wikispaces.com/</a:t>
            </a:r>
            <a:r>
              <a:rPr b="0" lang="en-US" sz="2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Bef>
                <a:spcPts val="550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4617b"/>
                </a:solidFill>
                <a:uFillTx/>
                <a:latin typeface="Calibri"/>
              </a:rPr>
              <a:t>PLPs The Futur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274320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District Wid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istrict-wide groups looking at hiring, purchas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ontinuation of PLP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Systemic Professional Develop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Grant suppor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wareness of the right tool for the right purpos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Thank you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Elementary Team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ve Kowalski-Instructional Technology Specialis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rancine Leggett-Enrichment Specialis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eanine Cannioto-Enrichment Specialist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endy Smith-MST Teache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rin Ells-Curriculum Supervisor LMS-Director of PD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ry Ann Krog-Elementary Princip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>
              <a:lnSpc>
                <a:spcPct val="8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 u="sng">
                <a:solidFill>
                  <a:srgbClr val="000000"/>
                </a:solidFill>
                <a:uFillTx/>
                <a:latin typeface="Constantia"/>
              </a:rPr>
              <a:t>Secondary Team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mily VerHow—Spry Middle Schoo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Julie Bianchi—Willink Middle Schoo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ave Leahy—Schroeder High Schoo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achel Ciesluk—Thomas High School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arb Goldammer—Curriculum Supervisor for Math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04617b"/>
                </a:solidFill>
                <a:latin typeface="Calibri"/>
              </a:rPr>
              <a:t>Thank You!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apyrus"/>
              </a:rPr>
              <a:t>Questions??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tantia"/>
              </a:rPr>
              <a:t>By Jeff Utech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e2d700"/>
                </a:solidFill>
                <a:uFillTx/>
                <a:latin typeface="Constantia"/>
                <a:hlinkClick r:id="rId1"/>
              </a:rPr>
              <a:t>www.thethinkingstick.com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0" name="Picture 6" descr="21CentTeacher.jpg"/>
          <p:cNvPicPr/>
          <p:nvPr/>
        </p:nvPicPr>
        <p:blipFill>
          <a:blip r:embed="rId2"/>
          <a:stretch/>
        </p:blipFill>
        <p:spPr>
          <a:xfrm>
            <a:off x="3886200" y="1701720"/>
            <a:ext cx="507996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4T17:19:57Z</dcterms:created>
  <dc:creator>cshell</dc:creator>
  <dc:description/>
  <dc:language>en-US</dc:language>
  <cp:lastModifiedBy>cshell</cp:lastModifiedBy>
  <dcterms:modified xsi:type="dcterms:W3CDTF">2008-05-21T16:02:47Z</dcterms:modified>
  <cp:revision>29</cp:revision>
  <dc:subject/>
  <dc:title>Powerful Learning Practices</dc:title>
</cp:coreProperties>
</file>